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063CC-1ECC-4118-B76B-769BF4C16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79D4C-6622-422D-91B9-B6CC6414D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5F2D8-914A-4DAC-B00D-7D56E4989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48552-38B8-42D2-A010-17AF1E3D5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338CA-2F13-4858-9896-3BDECF7AF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66052-545C-45F9-9335-D9ED82683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ECFC2-9EDB-4119-9C55-023851DC7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20A0F-F870-4F8D-8DC7-15CF8B224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76FBF-8CEB-42A6-BBC3-575EEE669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792D1-F971-457A-8EDD-396C66257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BEC65-626F-448D-A70D-70D5AD25D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A5CDC-CA62-48F6-B519-603BFFD97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E1BFB-FA3F-471E-BFDC-16322C131E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Direct Object Pronou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Direct Object Pronoun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u veux la pizza?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04960" y="2895480"/>
            <a:ext cx="5638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ui, je ______ veux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629400" y="4343400"/>
            <a:ext cx="76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2895480"/>
            <a:ext cx="312408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Direct Object Pronoun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u aimes les livres </a:t>
            </a: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Hunger Games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809880" y="2666520"/>
            <a:ext cx="5105520" cy="12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ui! Je ______ aime beaucoup!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733920" y="4572000"/>
            <a:ext cx="5410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L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04920" y="3429000"/>
            <a:ext cx="3181320" cy="31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Direct Object Pronoun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5943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u aimes écouter de la musique classique?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048120" y="2971440"/>
            <a:ext cx="5486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ui, de temps en temps je _______ écoute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257800" y="464832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3562200"/>
            <a:ext cx="3429000" cy="32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Direct Object Pronoun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69343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e peux essayer ce jean la?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428640" y="3809880"/>
            <a:ext cx="5257800" cy="23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362320" y="281952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e peux _____ essay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267080" y="4419720"/>
            <a:ext cx="3200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380880" y="3352680"/>
            <a:ext cx="192420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Direct Object Pronoun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Vous avez ces chaussures en bleue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914040" y="2895120"/>
            <a:ext cx="7010280" cy="246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Vous ______ avez en bleu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828800" y="4343400"/>
            <a:ext cx="5334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479280" y="4876920"/>
            <a:ext cx="1195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4464000"/>
            <a:ext cx="3581280" cy="23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Direct Object Pronoun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80010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Vous avez décider de prendre ce chemisier rose?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28600" y="2895480"/>
            <a:ext cx="548640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Non, je ne ________ vais pas prendre le rose. Je voudrais la verte s’il vous plait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5791320"/>
            <a:ext cx="838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5343480" y="3076560"/>
            <a:ext cx="3800520" cy="37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1T13:31:23Z</dcterms:created>
  <dc:creator>asmith</dc:creator>
  <dc:description/>
  <dc:language>en-US</dc:language>
  <cp:lastModifiedBy>asmith</cp:lastModifiedBy>
  <dcterms:modified xsi:type="dcterms:W3CDTF">2012-05-01T16:13:17Z</dcterms:modified>
  <cp:revision>2</cp:revision>
  <dc:subject/>
  <dc:title>Direct Object Pronouns</dc:title>
</cp:coreProperties>
</file>